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D07-1E5E-4B91-A670-9FEFDB59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26C-19B6-48D1-B9DE-3F54D194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AB163-4CBC-4DC6-B91D-864A577D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49EEE-6971-41DC-98B4-51A7B528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0D92D-4BFB-4208-977F-B69762BD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F2AA4-01E7-4C83-862F-6AFA304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5DB50-78D5-4FCD-BC65-BC285FA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953CA-CB5D-492B-AEC7-650606B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3F427-CFE7-4594-8B41-268CEEB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372D3-A807-4334-8684-172B1DDC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691B0-1571-458E-96C1-19AFE675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E33-42B8-4843-BF8A-54BBD7EC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70A-7656-4DF6-8189-DEDDDE41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4FE-8EDC-4147-8F38-C10A8503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7AE-28F3-4F0A-8244-CB509D3A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B3281-0F1E-46B2-A978-B80973C2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AD606-C737-450C-A3E3-B07F8F5E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191A9-5C0F-41A4-B241-B98CA59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E27-6628-471B-BC80-FAC727D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3204A-E5CA-4676-AD6C-0D4F8E7A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5C603-D966-4988-BEF0-17B4417D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8FE71-2829-4B41-8B26-7768DFD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F980E-9811-4EAA-B223-E9727FF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8294A-FD29-4E17-BB74-87AC74E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0FED5-4B64-41F6-9943-94AB98A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0CF7B-44F8-495E-BFE7-9987BA7B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44870-2F73-4D78-A5EB-E69A18CB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53835-C023-438A-BDDB-080C7F01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244517-CFFD-44D8-958A-828FE982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5D9-10DD-4B32-8160-D1F45777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34D3F-34A6-43E1-B417-1D71C243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245A8-F890-41F7-9979-7D1C3398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D16D0D-ED0E-47B3-AAA9-8786071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171E3-E88D-4869-B648-4DB39D3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E6E7D-E701-4CBB-B1A8-1A8D71A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41C40-347B-4CF1-9D59-AC1A5B8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A76E2-8E3C-4C7B-9504-879B175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02D3F-B47C-4FE9-8F1C-630B25E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EDE08-883E-4466-8FB8-9E96BAFC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34A2DD-5168-41D8-B71D-A99B16C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46B-C739-458F-97F8-0318CBAB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420436-9A0E-4DA6-930B-8832F7FC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07448-9CB9-4661-8D17-6C348AAF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9723C-CBE5-4261-B116-14492A4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DA8C6-83E2-4683-9D2D-BE0DB0D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561F7C-4933-49FF-B467-7895C03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D2908-4939-4A3F-A469-525BDD27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0462CD-78CB-41B9-B586-A91C38E0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CFAABB-F215-4976-8C03-8E8A217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99C6B-B7AC-4DC1-80A4-45E3AF7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0B11D-FA2C-4113-B82D-F13E13C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D2E-9505-42E4-9A66-FF3D8A8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DE9AB-7624-4F47-A80B-D3224054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918EF-B8F8-45C9-9691-3D37A011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37BB1-C570-4749-8CBA-BDE2A5FD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70121F-9DC9-4819-AC91-5C5CB567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0CDA55-6FB4-4BC6-8FF7-F76E245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FE7AEE-F61E-4A2D-9051-6A09875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888342-1BD4-4738-9AAF-CE49858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0832E-9008-4CD4-A39A-DDDE5B5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2B624-4CA1-476D-9B6B-60BB95FB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C032ED-F159-4D2A-97D8-D7754DB3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996-7A3E-488D-9FA4-815F618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E55E8D-11F3-42A9-B29B-22A12ED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E8ABC-1872-43C3-A1FA-803176E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DE01E9-6626-4623-9CDD-29FCE629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6986E-769C-4DC5-9AD0-DEB6AFA0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2BFDF-A0FC-49EA-A10C-9821B22A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033DF2-9774-4438-B0C7-FF1DB765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50FF54-967F-4041-BBFA-4AF2E90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C46DC-EB95-430C-8C17-FD3AB79C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CF641-4D9F-4428-8875-BA7A3D75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3462D-96D6-4BC9-AEF4-6A105423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0DD-4E16-4E38-BBEF-BE169C3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A650FA-5609-42DE-9E30-CFFE0EF4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429AC7-E704-4584-9517-DFE0A32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063304-E7DE-4542-839D-8816965C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8F565-12A9-4DB2-9197-5625D4C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6CAEFA-6BC0-4610-B99C-525D459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DB0C9-83BD-405C-95C1-23CADEFE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142AB0-ED6E-4162-B7FD-6778E09E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E7BF7-B540-4D5D-9B48-82EDB3E7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3BBBD-8403-4C8B-9B07-4A673ABD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3D52B-108C-4BA9-9BB0-75A7FE5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A2E5C-2A6A-4B3E-BE53-9FA3FA45B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98CC6-0BCA-4551-AD76-B6298098F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EEA7D-E939-45D0-9355-7D591D213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0C40A-5226-43F8-AE76-E522E5AAF67F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46E7F-1D3B-4C94-B9EF-380328C1F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A5F34-3BFE-44D2-8997-9E08750E38C8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F74DF-2C4A-4763-9C5B-7719867A55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wo Party Syste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4431"/>
                </a:solidFill>
                <a:latin typeface="Book Antiqua"/>
              </a:rPr>
              <a:t>#APUSH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1992240" y="532296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Learning Go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 Students will be able to describe the typical Whig voter in the 1840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esident Tyl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7" name="Content Placeholder 3" descr="tyler.jpg"/>
          <p:cNvPicPr/>
          <p:nvPr/>
        </p:nvPicPr>
        <p:blipFill>
          <a:blip r:embed="rId1"/>
          <a:srcRect l="-18226" t="0" r="-18226" b="0"/>
          <a:stretch/>
        </p:blipFill>
        <p:spPr>
          <a:xfrm>
            <a:off x="765000" y="2070000"/>
            <a:ext cx="76122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mework for Tonigh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gin Preparing for the Exam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ke sure you are solid on the following topic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on m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oils Syste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 Party Syste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rrupt Bargai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enry Cla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Jacksonian Democra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lection of 1824, 1828, 1836, 1840, 1844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Party Syste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ra of Good Feelings Ends w/ Return to 2 Par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led by Henry Clay (Hamiltonian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ocrats led by Andrew Jackson (Jeffersonian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litical Challenge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) Westward Expansion / Manifest Destin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) Industrial Economy / Industrial Revolu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ho Voted for Who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65000" y="1936800"/>
          <a:ext cx="7612200" cy="4705200"/>
        </p:xfrm>
        <a:graphic>
          <a:graphicData uri="http://schemas.openxmlformats.org/drawingml/2006/table">
            <a:tbl>
              <a:tblPr/>
              <a:tblGrid>
                <a:gridCol w="3859560"/>
                <a:gridCol w="375264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Favore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 local rule, limited government, free trade, equal economic opportunity (whites only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Oppose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 monopolies, national bank, high tariffs, high land p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Wh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Favored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Clay’s America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Opposed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immorality, vice, crime (blamed on immigra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000"/>
                    </a:solidFill>
                  </a:tcPr>
                </a:tc>
              </a:tr>
              <a:tr h="21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Who voted Democr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Southerners, westerners, small farmers, urban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Who voted Whi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New Englander’s and folks in mid-Atlantic &amp; upper-Middle-Western states; Protestants from England; middle class urban professsio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lection of 1836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J nominated Martin Van Buren (who oversaw Trail of Tear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nominated THREE candidates from 3 different reg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? Whigs hoped no one would win required votes and it would go to the H or Reps (where each state had 1 vot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rategy failed, MVB is the new POT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77" name="Content Placeholder 3" descr="ElectoralCollege1836-Large.png"/>
          <p:cNvPicPr/>
          <p:nvPr/>
        </p:nvPicPr>
        <p:blipFill>
          <a:blip r:embed="rId1"/>
          <a:srcRect l="-16548" t="0" r="-16548" b="0"/>
          <a:stretch/>
        </p:blipFill>
        <p:spPr>
          <a:xfrm>
            <a:off x="0" y="293760"/>
            <a:ext cx="900432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anic of 1837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nks closed in rapid succession, Unemployment rose, banks called in loans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? AJ’s opposition to Ban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lamed Democr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VB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opposed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intervention in the Panic, JUST LIKE Pres. Herbert Hoover in the Great Depression. It cost BOTH men the next el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VB and HH opposite of Barack Obam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0320" y="79200"/>
            <a:ext cx="8246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Inebriated Campaign of 1840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5000" y="2069640"/>
            <a:ext cx="80265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looked poised to win the el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d a solid candidate in William Henry Tippecanoe Harrison (war hero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lled “Log Cabin Campaign” and “Hard Cider” Campaig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 Party passed out WHH’s favorite drink to voters / also used image of log cabin to symbolize WHH’s humble origi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ripped MVB as an aristocrat who liked fine wi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lection of 1840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3" name="Content Placeholder 3" descr="1840 Election.jpg"/>
          <p:cNvPicPr/>
          <p:nvPr/>
        </p:nvPicPr>
        <p:blipFill>
          <a:blip r:embed="rId1"/>
          <a:srcRect l="-17937" t="0" r="-17937" b="0"/>
          <a:stretch/>
        </p:blipFill>
        <p:spPr>
          <a:xfrm>
            <a:off x="765000" y="2070000"/>
            <a:ext cx="76122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Short Lived Succes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H died less than a month after taking o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hn Tyler becomes first VP to succeed Pres. (dubbed “His Accidency”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yler was the anti-Whig (lo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vetoed Whig national bank bills, favored expansionism and Democratic posi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2:55:00Z</dcterms:created>
  <dc:creator>Mark Scacewater</dc:creator>
  <dc:description/>
  <dc:language>en-US</dc:language>
  <cp:lastModifiedBy>Mark Scacewater</cp:lastModifiedBy>
  <dcterms:modified xsi:type="dcterms:W3CDTF">2012-12-03T03:12:17Z</dcterms:modified>
  <cp:revision>10</cp:revision>
  <dc:subject/>
  <dc:title>Two Party System</dc:title>
</cp:coreProperties>
</file>